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6D7E3-A427-4E55-9A94-150DC0AF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902AD-E469-4237-909C-7D9681B8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4EDB6-739C-42CA-84E3-4F7ED73B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A01D7-DA77-471C-908A-750375E2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A987-C8C6-48B7-A6BB-CE573B84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C6A6-5C07-40C3-AFA7-87A87793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630E-3E56-470E-A6E1-C392DD6C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82A3-C5AC-4461-A851-62621EA4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8463-94FD-4543-BC6C-E1BC7ECD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B874-457E-43BB-9857-C7F2454C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A1C9-A8C5-4D2F-B858-5DE41200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D399F-3C73-465D-B568-2B16C64B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BFA9-0F54-4C06-8EB2-369A093E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EE7D-E476-4B67-9327-1ED9EB4A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A5AF-060E-4226-8B22-C2369D0A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66E3-1BED-4BF4-87A9-7ED47AD1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46F8-6BEE-4FD2-ADC8-24B8CC43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07599-377D-455F-A9C4-9D5B3827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600C9-3314-49F9-A8D9-B6D50C95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6D8DF-B51A-4281-BC0A-6B841A57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BB4A1-15D5-4999-9443-FDBD9036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AC785-5EFF-4AD6-A929-B1B5DDBE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257D1-72C1-48C3-AF44-30F98549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4B0D1-1DD0-4FA5-9219-19D655C7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5812-367B-4CA1-B93D-67C94D2049C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E7BA-1FFD-4889-B24A-71E95BFC651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198080"/>
            <a:ext cx="11279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1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0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Твойта слава, мир, любов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ълниш всички небес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небесния покров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ршиш Свойте чудес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всесилни Боже, Т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врага ни опаз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46448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рак навсякъде цар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рак и смъртна тъмнина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ърсим Твоите зар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ърсим Твойта светлин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ни води през деня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ни пази през нощ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484200" y="1058400"/>
            <a:ext cx="7842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ънце наше, разпръсн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ки грях далеч от нас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аловерието н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странявай всеки час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Спасител Си наш благ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коварен смъртен враг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26960" y="1058400"/>
            <a:ext cx="7956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огнен стълб ни Ти вод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тъмнините на нощт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блак светъл провод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блак, водещ зад смъртт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разсейвай в нас скръбт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насаждай радост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24T15:35:30Z</dcterms:modified>
  <cp:revision>25</cp:revision>
  <dc:subject/>
  <dc:title>Slide 1</dc:title>
</cp:coreProperties>
</file>